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6E0-6EF3-477E-85D8-A3C114B8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FCB-4D8C-4BF5-BE1D-9EA9663F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912-2C18-499B-AE21-6E61BCC9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E1E-00A2-4B4D-AE09-0B7621F7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70E-2382-4955-B4C3-EFC8C65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8B7-25EF-4128-BB31-E13C2B4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3E4-E6FA-46A7-8688-1E773EF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BA2-5FBB-43E9-B80D-DE51E3C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9F9-FD5E-45A6-A1CF-A60B67FA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C6C-9454-4B39-8DEC-B759CCB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0EF-DF6A-429A-9C45-EA385A6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5C6-2126-4F57-8F5B-0F269E4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0B0C-B9DD-4838-B7C9-F29B3D81A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89800" y="380880"/>
            <a:ext cx="728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ذ دخلـتُ قدسَكَ ورأيـت عرش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كل من هم حولك يُنشـدون مجد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خجلتني صورتي وصرختُ وي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ل نظــيري ينفـعُ لســيـدي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360" y="380880"/>
            <a:ext cx="715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ام طهرِ عرشَكَ أُدرك نجاس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 أنا يا سيدي كي تجيب طلب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ُسَّ ربي شفتاي بلهيب جمـر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أصـير لائـقـاً لخـدمـتـ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02200" y="304920"/>
            <a:ext cx="825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مجدٍ سيدي أي فخرٍ بل يز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بهجة هنا لأنني بك سع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هما أسعى سيد لن أفي الحب الفر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ســرورٍ ســيدي أُطـيـعـ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13:23Z</dcterms:created>
  <dc:creator>HANI SAFI</dc:creator>
  <dc:description/>
  <dc:language>en-US</dc:language>
  <cp:lastModifiedBy>HANI SAFI</cp:lastModifiedBy>
  <dcterms:modified xsi:type="dcterms:W3CDTF">2003-04-12T05:18:14Z</dcterms:modified>
  <cp:revision>1</cp:revision>
  <dc:subject/>
  <dc:title>Slide 1</dc:title>
</cp:coreProperties>
</file>